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B05-AB9B-44BD-B37D-D474BFAF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96A-8CB2-4C06-B001-A9DD023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E59-195A-4D01-A5DE-26A22B55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F7B-C3A9-44DC-9DC5-D0086B71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E0F5-7908-4251-BF03-2D238F23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964-65B4-4E7A-ACA2-3EF0A1BF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AD2-C93D-489C-AFC4-762BD65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EAC9-CFE9-4915-A169-D0EF6C1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E448-1C5A-4B5D-9A6D-CBF9D8FA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7D07-5D53-469A-AAE5-572787A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A36-192F-402E-96AD-02B63B1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FB9-5D8B-4A4D-91F3-5B11A0C4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17F-B620-4779-AA94-0E74466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EFE-3026-47D6-B0D2-B0C9B29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354-9E46-4336-A9EB-592A7D9D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8D31-0838-40CC-81E6-B618DA57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DE2-2441-4017-9219-9A57A84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013E-57DD-4C94-A08C-E8F8259F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B454-AFDA-4B94-BDCF-B96F4DA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9DED-D3DA-472B-A6DB-260538D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6C92-A479-45BD-B704-A7A7D72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E753-1653-48BE-B8AA-3AFFFE6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D5F-EE0F-42DD-AAB9-AABA557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FC1E-99A9-4100-93A8-2DF8C14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3ACF-E1E4-4FF2-876A-24718C9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219B-9902-4E6E-ACC3-BC919A5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C52B-90CE-4421-A589-3E31D4E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3BAD-4D83-48F7-873E-6A6119D7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A1D0-B975-4295-91D2-FDC975EF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161A-746B-4995-B4CB-FEC24295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ED497-95A3-47B1-9E53-91DFD3B36D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A182D-F66D-48BE-A955-8BD4904F1F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82D8C-EB0F-4473-B7BF-960DAD0B9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1E0-7957-437F-AE72-7C456728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64DE8-E5D7-41E6-9951-6C31106B69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EC6AB-63DF-4586-B8E7-B337E77A3F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9951A-44F0-4AC9-AA00-68E29AE2A8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8AAA2-718B-4D58-822E-D194633AB9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B3E19-97C9-4CE9-9444-71A94CEE6D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109A8-0136-4B86-A50D-363A54048A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A6C0A-3603-4804-A60D-0D237DF955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46968-FF63-4DE7-8B9D-6869F7DD33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2D8D0-F120-434F-B4A2-CF39095F6A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E213D-5A48-45FD-B30B-11C1C3C5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CC2-881A-4A49-B0CA-70DDDA6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44A02-534C-4A0A-907A-FA8C886F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981A7-A594-4C36-9AF6-7C9D5EB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6CE43-BD4B-4E9D-97BB-5EBE4553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0D89D-3722-41D9-AFCB-02D7891F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2B856-56D0-4110-AFBC-59DD32D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15546-B233-4497-8B44-9626CCD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C78C5-4D0E-4B7C-8961-5E8AE25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467DF-ECFF-4DDF-A5F9-A85FECD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547D1-4971-40B7-B4CD-D64ED28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E086B-2D85-4E63-A028-49976FDF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9EE-27BE-49B7-AF7C-17F2C65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35D3F-F78A-411E-AD8A-538C4C9E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6C9-AF75-4E79-B97E-517FC71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138-C9A8-49D3-A3A0-5DFA37D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C45-A8C3-43B4-B0B9-EA5DF91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DF49-5419-4398-8438-7AD6FC26B6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503A-DA90-4BCF-A6FF-3F0718232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9B8-7992-454D-91DE-B767E199EF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4B2-C403-4BAB-8E2D-A005F7EF4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3" descr="HRIM"/>
          <p:cNvPicPr/>
          <p:nvPr/>
        </p:nvPicPr>
        <p:blipFill>
          <a:blip r:embed="rId4"/>
          <a:stretch/>
        </p:blipFill>
        <p:spPr>
          <a:xfrm>
            <a:off x="152280" y="6269040"/>
            <a:ext cx="1067040" cy="2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4" descr="logo_01"/>
          <p:cNvPicPr/>
          <p:nvPr/>
        </p:nvPicPr>
        <p:blipFill>
          <a:blip r:embed="rId5"/>
          <a:stretch/>
        </p:blipFill>
        <p:spPr>
          <a:xfrm>
            <a:off x="8001000" y="6248520"/>
            <a:ext cx="885960" cy="35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707D-5FB8-41E9-A47C-1624CDE7A28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90B-8F22-4745-BAD7-C382B596A8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0"/>
          </p:nvPr>
        </p:nvSpPr>
        <p:spPr>
          <a:xfrm>
            <a:off x="2742840" y="6264000"/>
            <a:ext cx="28954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456840" y="624816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67C-E1C3-4FAF-BC16-4C4B0AD687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0F2-5A8B-4851-B6D0-4A641DC8319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744-106B-4B87-86C2-A23AB43EC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Hotel Feasibility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oal of this lesson is to provide the learner with an understanding of the process of performing a hotel feasibility study, as well as the importance of such a task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7" name="Picture 7" descr="mbs1.jpg"/>
          <p:cNvPicPr/>
          <p:nvPr/>
        </p:nvPicPr>
        <p:blipFill>
          <a:blip r:embed="rId1"/>
          <a:stretch/>
        </p:blipFill>
        <p:spPr>
          <a:xfrm>
            <a:off x="0" y="6080040"/>
            <a:ext cx="2190600" cy="77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mbs1.jpg"/>
          <p:cNvPicPr/>
          <p:nvPr/>
        </p:nvPicPr>
        <p:blipFill>
          <a:blip r:embed="rId2"/>
          <a:stretch/>
        </p:blipFill>
        <p:spPr>
          <a:xfrm>
            <a:off x="6953400" y="6080040"/>
            <a:ext cx="2190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rk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istics on visitor arriv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apshot of local econom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cted chang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erage length of stay of visitors in lo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5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 Breakdow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Templa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924680" cy="1596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truction Tren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Templa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3920" y="1930320"/>
            <a:ext cx="8691480" cy="386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erty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34240" cy="4483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om Rate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9600" y="2058840"/>
            <a:ext cx="8453520" cy="3421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7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Analysis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gle and Double Occup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143000" y="1784520"/>
            <a:ext cx="6553080" cy="2274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086600" cy="2400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78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nities Analysis-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3579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8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nities Analysis-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762120" y="1851120"/>
            <a:ext cx="7543800" cy="4832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Picture1a.jpg"/>
          <p:cNvPicPr/>
          <p:nvPr/>
        </p:nvPicPr>
        <p:blipFill>
          <a:blip r:embed="rId2"/>
          <a:stretch/>
        </p:blipFill>
        <p:spPr>
          <a:xfrm>
            <a:off x="0" y="6380280"/>
            <a:ext cx="838080" cy="477720"/>
          </a:xfrm>
          <a:prstGeom prst="rect">
            <a:avLst/>
          </a:prstGeom>
          <a:ln w="0">
            <a:noFill/>
          </a:ln>
        </p:spPr>
      </p:pic>
      <p:sp>
        <p:nvSpPr>
          <p:cNvPr id="28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all Property Eval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05880" cy="415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0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 Break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157960" cy="219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5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 what is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wo phases of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hree major components of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 knowledge of important financial determina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2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erty Support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86640" cy="4005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asonal Occupancy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29600" cy="3508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0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imated Area Occupanc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39040" cy="206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8610480" cy="1791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Dema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243640" cy="193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1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jected Dem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reakdow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62800" cy="1447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1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jected Occupanc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Outl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8543880" cy="2338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443800" cy="1852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1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bor Sit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re adequate labor suppl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 at the middle-management or supervisory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ality of lab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bor costs projections – wages, benefits, Wage trends, 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ions? reasonable, flexible, and prepared to bargain in good fai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Elements of a Proj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r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est during constr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rniture, fixtures, and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ng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nt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-opening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La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s on whether land is actually purchased or ow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 of land typically weighed based on the number of rooms in hotel. Can range from $500 per room to as high as $30,000 or $40,0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xes during construction and costs of clearing the land factored into overall c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3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Constr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rgest cost element in any hotel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franchised, have to adhere to franchisor spe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$60,000 per-room cost of construction is considered satisfactory (Prevailing market scenario without interest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-price contra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st more controlled, difficult to get because of the inflation prevalent both in labor and in construction materials, this is not often feasibl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st-plus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ractor’s profits are a percentage of the costs. Maximum ceiling on cost can be written into contra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3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What is a Feasibility Stud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s the need for the proposed hotel must be investigated, estimated, documented and supported, so that the client can be assured that the proposal is justifi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s Pertaining to Furni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ixtur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ither developer buys from one-stop shop supplier or spreads out across several suppli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 of house and back-of-the-house equipmen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r-conditioning or heating, is considered to be part of the construction co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$12,000 per room for furniture, fixtures, and equipment is considered acceptable (Of course depends on bran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0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perating Equi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n, silver, china, glass ware, and, in some instances, unifo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-up inventories must be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$8,000 per room is accep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nt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entories can be broken down into the following categori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ever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eaning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per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uest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tio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gineering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essive inventories can tie up capital and create additional interest cos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$6,000 per room of for operating inventories should be considered satisfacto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-opening Expen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or to the opening of a hotel, expenses incurred fo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-opening payroll, training costs, advertising, and sales expenses and travel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 factored into overall budg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s on the pre-opening philosophies of the operat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$3,000 per room is considered optim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5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ds required to meet early payrolls and operating expenses (unpredictable time perio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s cash flow health of the fir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uld amount to at least $2,000 per ro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Fe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roject is a franchise, total cost and fee structure to be cle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0" name="Picture 5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of Financ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ginal support (reducing a lot) from banks, mortgage lenders, and insurance compani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vate groups of investors (Largest source of funding presently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Bank or the Export—Import Bank for hotel and tourism development in various ar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vernmental or tourism bodies in an effort to promote tourism in a specific count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Financi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perating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perating inco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profit realized from a business' own oper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I 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Operating Incom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* (1-tax 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OI = EBIT * (1-tax 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BIT is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arnings before Interest and Taxes (EBIT)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Financi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terest Carry Ratio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Net Operating Income / Loan Amou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$100,000 / 750,000 = .13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ratio gives you an idea of the maximum interest rate that a loan's cash flow could carry. This example shows a 13% interest rate. The cash flow is great for this examp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7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Important Financial</a:t>
            </a:r>
            <a:br>
              <a:rPr sz="4000"/>
            </a:b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 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bt Service Coverage Ratio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Net Operating Income / Debt Serv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$100,000 / 65,601.47 = 1.52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higher the debt service coverage, the less risky the loan. Typical debt service coverage requirements range from 1.1 to 1.25. A 1.52 ratio reflects a good invest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7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Feasibility Stud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tel feasibility entails three major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paration of a market feasibility study for the proj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imation of costs for all elements of the project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ation of sources of financ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0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of Thum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80880" y="2057400"/>
          <a:ext cx="8229600" cy="3876840"/>
        </p:xfrm>
        <a:graphic>
          <a:graphicData uri="http://schemas.openxmlformats.org/drawingml/2006/table">
            <a:tbl>
              <a:tblPr/>
              <a:tblGrid>
                <a:gridCol w="5457960"/>
                <a:gridCol w="277164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Build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,739,1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Non-building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,618,859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oft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861,15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64,55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Total Project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,383,679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Cost Per Room (Total Project Cost/100 Roo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3,83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 to Determine 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ule of Thumb=Total Cost Per Key/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3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380" name="Picture 29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fd8"/>
                </a:solidFill>
                <a:latin typeface="Calibri"/>
              </a:rPr>
              <a:t>Two Phases of a Hotel Feasibility Stud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Feasibi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conomic Feasibi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Flowchart: Process 4"/>
          <p:cNvSpPr/>
          <p:nvPr/>
        </p:nvSpPr>
        <p:spPr>
          <a:xfrm>
            <a:off x="8229600" y="304920"/>
            <a:ext cx="91440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xim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 and Trade Centers, Highways, Traffic Levels, Key Attractions, Shopping Centers, Population Backu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e 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ze, Zoning Laws, height restrictions and parking requirements, Visibility, Accessibil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8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petitive Area Propert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85748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3429000" cy="278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43" name="Flowchart: Process 5"/>
          <p:cNvSpPr/>
          <p:nvPr/>
        </p:nvSpPr>
        <p:spPr>
          <a:xfrm>
            <a:off x="8153280" y="457200"/>
            <a:ext cx="990720" cy="60948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ffic Count of Competiti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667040" cy="480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4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Location &amp; Siz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are importa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222960" y="1763640"/>
            <a:ext cx="273528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2755800" cy="450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204840" y="1763640"/>
            <a:ext cx="274140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6" descr="Picture1a.jpg"/>
          <p:cNvPicPr/>
          <p:nvPr/>
        </p:nvPicPr>
        <p:blipFill>
          <a:blip r:embed="rId4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53" name="Flowchart: Process 6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0:46:59Z</dcterms:created>
  <dc:creator>Srikanth Beldona</dc:creator>
  <dc:description/>
  <dc:language>en-US</dc:language>
  <cp:lastModifiedBy>robert</cp:lastModifiedBy>
  <dcterms:modified xsi:type="dcterms:W3CDTF">2011-04-14T03:40:18Z</dcterms:modified>
  <cp:revision>90</cp:revision>
  <dc:subject/>
  <dc:title>Feasibility Studies</dc:title>
</cp:coreProperties>
</file>